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2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A0EE-311D-4ABB-BEAE-AA9E6A99B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18AF-FEF6-451B-8B15-61BF2217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A901-2A2C-473A-886B-241BF2245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A7B7-C917-4DE6-A048-9F5775044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6786-A4D9-4687-920E-846056BD1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8FD3C-E727-46C2-A436-7BEEE9DF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577A-9C33-4952-8B40-37331BCF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E5D4-7388-4C0D-A0B0-81D1417C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4841C-1CF5-4AB2-8D63-79DCCC64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C8603-DBB4-4A32-95D8-268A2D22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DC63-04B7-4F17-8EE8-1623721B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A65E-515A-4375-85BC-A695B56A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D46D-D2EF-4ADB-8D4E-4A4B4D15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49BE-C660-490C-AB91-D487819D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B602-7850-4F02-BA3C-DB270A7E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2436-7EAC-468B-A66F-B7EB6BC94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16D9-2299-4B5D-9C8C-9150571E0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BD5D-411E-491E-B4A7-45573A11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6D29-9C0B-41EB-9BB0-6BABAECC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65F6-C7F1-41C4-8B3B-B2B0703B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9058-071C-49DB-93F1-5C7A950B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AE51-1BF2-4353-81D8-D7375047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862A-5C50-46FF-82CF-965B875E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185F-319E-406F-8CBA-6CFD5AB9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9691-859E-41E6-8A99-71D91E83A9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F35E-D5F0-42A2-B7D9-DB80E1D7FF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Загадка планеты Земл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нятие №3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Круговорот вод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8458200" cy="48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7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Геоид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828800" y="990720"/>
            <a:ext cx="5638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80880" y="914400"/>
            <a:ext cx="8458200" cy="57405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Движение Земл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Движение Земл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09480" y="1066680"/>
            <a:ext cx="7620120" cy="54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4438800" cy="6095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991480" y="2666880"/>
            <a:ext cx="19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са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Ньют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25.12.1642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0.03.172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7959960" cy="53737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Солнечная систем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Движение плане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1828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371600" y="3200400"/>
            <a:ext cx="609588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ланета Земл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868680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458200" cy="5435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48400" y="5943600"/>
            <a:ext cx="863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«Бог распростёр небеса, как тонкую ткань, и раскинул их , как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шатёр для жилья»… (Ис. 40-я глав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Атмосфера Земл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219320" y="1152360"/>
            <a:ext cx="652464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Атмосфера Земл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133720" y="838080"/>
            <a:ext cx="3971880" cy="5705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7238880" y="762120"/>
            <a:ext cx="9716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Метеоритный дожд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861048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«Северное сияние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8229600" cy="53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4626000" cy="6324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933880" y="2895480"/>
            <a:ext cx="241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Эванжелист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Торричел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15.10.1608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5.10.164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</cp:lastModifiedBy>
  <dcterms:modified xsi:type="dcterms:W3CDTF">2013-10-02T06:31:49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