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96E-AB53-421A-B4F8-668ABBE6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CA7-DF11-4DB4-9494-E0D31A0A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33E-7CBE-4AD4-8539-7240DA15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2AF-9FC2-4911-8765-8BC522AD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2C4-ED6C-4F98-83D7-A1F9190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65E-4D56-473C-B864-2580237B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C6F-E787-4E52-973C-303FCFC3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315-7C66-4718-B064-EB21081F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B56-869E-4942-8805-E1DE7B93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13B-242F-4D5E-B8AD-3048F8E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38C-C9D3-4BC5-8359-5030C89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EB2-99F0-45E4-AD45-908150F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15D3-0666-460B-B8C6-7D5FD8633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6;&#1086;&#1089;&#1089;&#1080;&#1103;%20&#8212;%20&#1086;&#1073;&#1097;&#1080;&#1081;%20&#1076;&#1086;&#1084;%20&#1084;&#1085;&#1086;&#1075;&#1080;&#1093;%20&#1085;&#1072;&#1094;&#1080;&#1086;&#1085;&#1072;&#1083;&#1100;&#1085;&#1086;&#1089;&#1090;&#1077;&#1081;&amp;img_url=http%3A%2F%2Fwww.islamnews.ru%2Fuploads%2Fnews%2F2012-07%2F1341227464%2Fglobal%2Fnews-XEokjjMRsX.jpg&amp;pos=5&amp;uinfo=sw-1044-sh-465-fw-819-fh-448-pd-1&amp;rpt=simage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1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Наша страна – Россия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Одна ты на свете! Одна ты такая -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Хранимая Богом родная зем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stihi.ru/pics/2010/12/11/1162.jpg"/>
          <p:cNvPicPr/>
          <p:nvPr/>
        </p:nvPicPr>
        <p:blipFill>
          <a:blip r:embed="rId1"/>
          <a:stretch/>
        </p:blipFill>
        <p:spPr>
          <a:xfrm>
            <a:off x="914400" y="129528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оссия — самая большая страна в ми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forum.vgd.ru/file.php?fid=49238&amp;key=2120080083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очему в Гимне Россия названа «братских народов союз веково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Главное богатство России — ее многонациональный на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upme-rf.ru/wp-content/uploads/2011/11/112911_1016_2.jpg"/>
          <p:cNvPicPr/>
          <p:nvPr/>
        </p:nvPicPr>
        <p:blipFill>
          <a:blip r:embed="rId1"/>
          <a:stretch/>
        </p:blipFill>
        <p:spPr>
          <a:xfrm>
            <a:off x="304920" y="1371600"/>
            <a:ext cx="823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learning\Рабочий стол\Одежда\0_69a4_2f103836_XL[1].jpg"/>
          <p:cNvPicPr/>
          <p:nvPr/>
        </p:nvPicPr>
        <p:blipFill>
          <a:blip r:embed="rId1"/>
          <a:stretch/>
        </p:blipFill>
        <p:spPr>
          <a:xfrm>
            <a:off x="214200" y="214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learning\Рабочий стол\Одежда\304_33[1].jpg"/>
          <p:cNvPicPr/>
          <p:nvPr/>
        </p:nvPicPr>
        <p:blipFill>
          <a:blip r:embed="rId2"/>
          <a:stretch/>
        </p:blipFill>
        <p:spPr>
          <a:xfrm>
            <a:off x="214200" y="3211560"/>
            <a:ext cx="2428920" cy="364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learning\Рабочий стол\Одежда\304_35[1].jpg"/>
          <p:cNvPicPr/>
          <p:nvPr/>
        </p:nvPicPr>
        <p:blipFill>
          <a:blip r:embed="rId3"/>
          <a:stretch/>
        </p:blipFill>
        <p:spPr>
          <a:xfrm>
            <a:off x="6215040" y="214200"/>
            <a:ext cx="2714760" cy="407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learning\Рабочий стол\Одежда\ce470e8b2221[1].jpg"/>
          <p:cNvPicPr/>
          <p:nvPr/>
        </p:nvPicPr>
        <p:blipFill>
          <a:blip r:embed="rId4"/>
          <a:stretch/>
        </p:blipFill>
        <p:spPr>
          <a:xfrm>
            <a:off x="4608360" y="3714840"/>
            <a:ext cx="4321440" cy="288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learning\Рабочий стол\Одежда\publication_2546_5425[1].jpg"/>
          <p:cNvPicPr/>
          <p:nvPr/>
        </p:nvPicPr>
        <p:blipFill>
          <a:blip r:embed="rId5"/>
          <a:stretch/>
        </p:blipFill>
        <p:spPr>
          <a:xfrm>
            <a:off x="2214720" y="3143160"/>
            <a:ext cx="2543040" cy="285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learning\Рабочий стол\Одежда\imgB[1].jpg"/>
          <p:cNvPicPr/>
          <p:nvPr/>
        </p:nvPicPr>
        <p:blipFill>
          <a:blip r:embed="rId6"/>
          <a:stretch/>
        </p:blipFill>
        <p:spPr>
          <a:xfrm>
            <a:off x="4429080" y="571680"/>
            <a:ext cx="174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оссия — общий дом многих националь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im7-tub-ru.yandex.net/i?id=189357906-2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884160"/>
            <a:ext cx="66895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акое событие изображено?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чему воздушные шары на сцене именно таких цветов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839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1089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разднование Дня Народного Единства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 шко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10439" t="0" r="0" b="0"/>
          <a:stretch/>
        </p:blipFill>
        <p:spPr>
          <a:xfrm>
            <a:off x="457200" y="1066680"/>
            <a:ext cx="82296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0070c0"/>
                </a:solidFill>
                <a:latin typeface="Arial"/>
              </a:rPr>
              <a:t>Государственный 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:\20 лет констит\20 лет конст\флаг.jpg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7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думай, почему Россия – общий Дом для ее национальностей? Какие из значений понятия «Дом» лучше помогут ответить тебе на этот вопро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1600200"/>
          <a:ext cx="8534520" cy="5121360"/>
        </p:xfrm>
        <a:graphic>
          <a:graphicData uri="http://schemas.openxmlformats.org/drawingml/2006/table">
            <a:tbl>
              <a:tblPr/>
              <a:tblGrid>
                <a:gridCol w="2209680"/>
                <a:gridCol w="3886200"/>
                <a:gridCol w="243864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. И. Д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.И. Ожег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.В. Виногра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ОМ: строение для житья, усад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ОМ: жилое  здание; свое жильё, а также семья, люди, живущие вместе, их хозяйство; место, где живут люди, объединённые общими интересами, условиями существования; династия, р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ОМ: люди, живущие вместе; семь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Размышляем  вмест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трану нашу называют различными именами: Российская Федерация, Россия, матушка Россия,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 каких случаях какие названия мы употребляем?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  еще можно называть нашу стра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сскажи, что объединяет оба пейзажа?  Какие общие детали пейзажей ты видиш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ленов Василий Дмитриевич (1844-1927) Монастырь над ре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10" descr="1853254875[1].jpg"/>
          <p:cNvPicPr/>
          <p:nvPr/>
        </p:nvPicPr>
        <p:blipFill>
          <a:blip r:embed="rId1"/>
          <a:stretch/>
        </p:blipFill>
        <p:spPr>
          <a:xfrm>
            <a:off x="0" y="2895480"/>
            <a:ext cx="4497480" cy="253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фонин Александр Павлович (род. 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ебо Святой Р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11" descr="iCAFCQSW8.jpg"/>
          <p:cNvPicPr/>
          <p:nvPr/>
        </p:nvPicPr>
        <p:blipFill>
          <a:blip r:embed="rId2"/>
          <a:stretch/>
        </p:blipFill>
        <p:spPr>
          <a:xfrm>
            <a:off x="5048280" y="2386080"/>
            <a:ext cx="35622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митрий Сергеевич Лихачёв. «Земля род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3dcb"/>
                </a:solidFill>
                <a:latin typeface="Arial"/>
              </a:rPr>
              <a:t>«Я придерживаюсь того взгляда, что </a:t>
            </a: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любовь к Родине начинается с любви к своей семье, к своему дому, к своей школе. </a:t>
            </a:r>
            <a:r>
              <a:rPr b="0" lang="ru-RU" sz="2400" spc="-1" strike="noStrike">
                <a:solidFill>
                  <a:srgbClr val="0b3dcb"/>
                </a:solidFill>
                <a:latin typeface="Arial"/>
              </a:rPr>
              <a:t>Она постепенно растет. С возрастом она становится также любовью к своему городу, к своему селу, к родной природе, к своим землякам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ОПК 2013-2014\! урок\iCA89FGGZ.jpg"/>
          <p:cNvPicPr/>
          <p:nvPr/>
        </p:nvPicPr>
        <p:blipFill>
          <a:blip r:embed="rId1"/>
          <a:stretch/>
        </p:blipFill>
        <p:spPr>
          <a:xfrm>
            <a:off x="3962520" y="304920"/>
            <a:ext cx="4654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4038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Михаил Михайлович Пришвин. «Моя ро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5" descr="iCAGPPH4L.jpg"/>
          <p:cNvPicPr/>
          <p:nvPr/>
        </p:nvPicPr>
        <p:blipFill>
          <a:blip r:embed="rId1"/>
          <a:stretch/>
        </p:blipFill>
        <p:spPr>
          <a:xfrm>
            <a:off x="4724280" y="152280"/>
            <a:ext cx="4213440" cy="6383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572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b3dcb"/>
                </a:solidFill>
                <a:latin typeface="Arial"/>
              </a:rPr>
              <a:t>«Мать моя вставала рано, до солнца. Я однажды встал тоже до солнца, чтобы на заре расставить силки на перепёлок. Мать угостила меня чаем с молоком. Молоко это кипятилось в глиняном горшочке и сверху всегда покрывалось румяной пенкой, а под этой пенкой оно было необыкновенно вкусное, и чай от него делался прекра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dcb"/>
                </a:solidFill>
                <a:latin typeface="Arial"/>
              </a:rPr>
              <a:t>Это угощение решило мою жизнь в хорошую сторону: я начал вставать до солнца, чтобы напиться с мамой вкусного чаю. Мало-помалу я к этому утреннему вставанию так привык, что уже не мог проспать восход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4572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3dcb"/>
                </a:solidFill>
                <a:latin typeface="Arial"/>
              </a:rPr>
              <a:t>Иван Сергеевич Тургенев «Дерев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4" descr="iCAUKIUYW.jpg"/>
          <p:cNvPicPr/>
          <p:nvPr/>
        </p:nvPicPr>
        <p:blipFill>
          <a:blip r:embed="rId1"/>
          <a:stretch/>
        </p:blipFill>
        <p:spPr>
          <a:xfrm>
            <a:off x="4343400" y="380880"/>
            <a:ext cx="4800600" cy="6274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«Последний день июня месяца; на тысячу верст кругом Россия — родной край. Ровной синевой залито всё небо; одно лишь облачко на нём — не то плывёт, не то тает. Безветрие, теплынь... воздух — молоко парное! Жаворонки звенят; воркуют зобастые голуби; молча реют ласточки; лошади фыркают и жуют; собаки не лают и стоят, смирно повиливая хвост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Алексей </a:t>
            </a:r>
            <a:br>
              <a:rPr sz="2400"/>
            </a:b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Константинович Толстой. «Земля оттич и дедич» («Земля отцов и дедов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809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3dcb"/>
                </a:solidFill>
                <a:latin typeface="Arial"/>
              </a:rPr>
              <a:t>Родина — это движение народа по своей земле из глубин веков к желанному будущему, в которое он верит и создаёт своими руками для себя и своих поколени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g-fotki.yandex.ru/get/4525/14103101.ee/0_6eb5e_1301bf9a_XL"/>
          <p:cNvPicPr/>
          <p:nvPr/>
        </p:nvPicPr>
        <p:blipFill>
          <a:blip r:embed="rId1"/>
          <a:stretch/>
        </p:blipFill>
        <p:spPr>
          <a:xfrm>
            <a:off x="4114800" y="304920"/>
            <a:ext cx="479124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58200" y="1028160"/>
            <a:ext cx="7632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Как каждый из авторов назвал свой текст о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Какой текст тебе понравился больше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Какими средствами передает «чувство Родины» автор понравившегося тебе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Подсказка: красота родного края;  ощущение вкусов, запахов окружающего мира;  история родной земли; чувство любви и привязанности к близким, к окруж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3dcb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Что объединяет все тексты о Родине из этого уро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Вспомни из курса «Окружающий мир», что означает понятие «малая родина». Поделись своими размышлениями, как связаны между собой малая и большая род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Задание на самооцен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акой из текстов помог задуматься? Над ч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Напиши главные слова о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Напиши свой текст о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Напиши </a:t>
            </a:r>
            <a:r>
              <a:rPr b="1" lang="ru-RU" sz="4000" spc="-1" strike="noStrike" u="sng">
                <a:solidFill>
                  <a:srgbClr val="0b3dcb"/>
                </a:solidFill>
                <a:uFillTx/>
                <a:latin typeface="Arial"/>
              </a:rPr>
              <a:t>синквейн</a:t>
            </a: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 на тему «Родина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Прочитай, подумай и объяс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очитай рассказ Константина Дмитриевича Ушин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«Наше Отечеств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ие наименования России  употребляет автор? Как он их объясня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ше Отечество, наша родина – матушка Россия. Отечеством мы зовём Россию потому, что в ней жили испокон веку отцы и деды наши. Родиной мы зовём её потому, что в ней мы родились, в ней говорят родным нам языком и всё в ней для нас родное, а матерью - потому, что она вскормила нас своим хлебом, вспоила своими водами, выучила своему языку и, как мать, защищает и бережёт нас от всяких врагов, и, когда мы уснём навеки, то она же прикроет и кости наш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спомним Гимн России. Какие еще имена России   названы в Гимне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:\20 лет констит\20 лет конст\гимн России текс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От южных море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holidaykey.ru/media/propertyphotos/1/3541/24758sm.jpg"/>
          <p:cNvPicPr/>
          <p:nvPr/>
        </p:nvPicPr>
        <p:blipFill>
          <a:blip r:embed="rId1"/>
          <a:stretch/>
        </p:blipFill>
        <p:spPr>
          <a:xfrm>
            <a:off x="7621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до полярно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.obozrevatel.ua/11/1245876/gallery/678746.jpg"/>
          <p:cNvPicPr/>
          <p:nvPr/>
        </p:nvPicPr>
        <p:blipFill>
          <a:blip r:embed="rId1"/>
          <a:stretch/>
        </p:blipFill>
        <p:spPr>
          <a:xfrm>
            <a:off x="457200" y="1143000"/>
            <a:ext cx="80866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аскинулись наши леса и пол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img01.chitalnya.ru/upload/568/52508127363398.jpg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7:39Z</dcterms:created>
  <dc:creator>Ольга</dc:creator>
  <dc:description/>
  <dc:language>en-US</dc:language>
  <cp:lastModifiedBy>Olga</cp:lastModifiedBy>
  <dcterms:modified xsi:type="dcterms:W3CDTF">2014-10-23T05:53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