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6FC-8362-48E4-9431-0DC0987D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6BC-51B7-40DA-906B-05DAB173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FC8-C20F-420F-820D-6ED7D363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1CC-26EC-438F-819A-4D1D7732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878-F9EA-454A-A734-4CE3A52C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414-A896-4641-A9DF-AE79131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972-7EF9-4DD5-9A80-82158FF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843-B6F4-4067-942C-9B9B3C90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7C2-F193-48B4-B0CF-2C98A70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345-0B1D-422B-AC42-BCE9431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339-2111-483D-A79D-5DF6165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57E-F9F0-43C7-ADAA-F12EAE6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FB2-1EBB-4B2E-B686-733070494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2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Вера, религия, культура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к вы думаете, что означает слово «культур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лов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культура»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значает все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 создается в человеческой деятельности,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направляемой идеалами, представлениями о благе. Культура -  слово латинское. Его первоначальное значение связано с земледелием и означает улучшение почвы, чтобы она стала плодородной, и облагораживание растений, чтобы они цвели пышнее, нежнее благоухали, приносили обильные и сочные плод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годня все ученые соглашаются, что культура – очень сложное явление. Описать его трудно. Как ты думаешь, почем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ссмотри кластер, в котором предложена классификация  разных элементов культуры.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ие ещё элементы культуры ты хотел бы добавить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 Составь и расскажи на основе кластера рассказ, который начинается со слов: «Культура  включает в себя…»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-33480" y="228600"/>
          <a:ext cx="91774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228600"/>
                    <a:ext cx="91774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лигия – часть культур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тесно связанная с другими ее элемен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елигия учит, что общее благо, к которому следует стремиться людям, находится за пределами только человеческого мира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Есть иной - духовный  мир, с которым человек может установить связь, чтобы научиться лучшему и стать совершенне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лово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елигия»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- тоже латинское и означае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восстановление связи»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re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ligio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). Главным признаком религии являетс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льт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служение духовному миру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devichka.ru/images/stories/slovar/Sl-Bogoslugenie-Bol.jpg"/>
          <p:cNvPicPr/>
          <p:nvPr/>
        </p:nvPicPr>
        <p:blipFill>
          <a:blip r:embed="rId1"/>
          <a:stretch/>
        </p:blipFill>
        <p:spPr>
          <a:xfrm>
            <a:off x="4876920" y="0"/>
            <a:ext cx="45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ногие мыслители производят слово «культура» от слова «культ». Они полагают, что идеалы культуры - представления о благе, красоте, истине, справедливости — имеют источником религ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елигия формирует мировоззрение человека т.е. его воззрение на мир. Каждое религиозное учение по-своему сообщает человеку истину о мир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роды мира исповедуют разные религии.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х представления об истине различны. В современном мире также много людей, которые имеют нерелигиозное мировоззре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Урок 2. Вера, религия, культура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 </a:t>
            </a:r>
            <a:br>
              <a:rPr sz="3200"/>
            </a:b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азмышляем вместе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то такое благо?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ревние мудрецы  говорили так: благо есть то, к чему стремится душа,  к чему направлены желания человека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огласен ли ты с таким определением?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ожет ли случиться так, что благо для одного оборачивается злом  для другого?  Приведи примеры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А бывает так, что благо вдруг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орачивается своей противоположностью, злом? Знаешь ли ты такие истории? Расскажи.</a:t>
            </a:r>
            <a:br>
              <a:rPr sz="28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овременный мир стремится к веротерпимости и взаимопониманию. Различия мировоззрений не должно служить препятствием к тому, чтобы жить на одной планете в мире. Религиозная истина может быть настолько важна для человека, что он готов пойти за нее на любые лишения и жертвы. Н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кто не имеет права причинять другому насилие или ущерб из-за религиозных разногласий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алог людей о религиозных истинах важен, потому что людям нужно научиться понимать других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, их обычаи и привычки и осмыслить истину своей религии в сравнении с представлениями об истине в других религиях и мировоззрения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Рассмотри и расскажи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ллюстрации  рассказывают о поклонении верующих своим святыням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сскажи, что ты видишь на иллюстрациях.  Что объединяет верующих каждой религии между собо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атикан. Христиане-католики на площади св. Петра в Риме.  В ожидании Римского Па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img2.kasjauns.lv/lielasbildes/381-jauns_pavests_vatikana/pavests-6.jpg"/>
          <p:cNvPicPr/>
          <p:nvPr/>
        </p:nvPicPr>
        <p:blipFill>
          <a:blip r:embed="rId1"/>
          <a:stretch/>
        </p:blipFill>
        <p:spPr>
          <a:xfrm>
            <a:off x="1047600" y="1467000"/>
            <a:ext cx="8096400" cy="5391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aksakal.info/uploads/posts/2013-03/1362527954_87.jpg"/>
          <p:cNvPicPr/>
          <p:nvPr/>
        </p:nvPicPr>
        <p:blipFill>
          <a:blip r:embed="rId3"/>
          <a:stretch/>
        </p:blipFill>
        <p:spPr>
          <a:xfrm>
            <a:off x="0" y="1295280"/>
            <a:ext cx="3687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усульмане  на поклонении в Мек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www.volsk-life.ru/uploads/posts/2010-01/1263889284_xadzh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Иудеи и Стены Плача в Иерусалим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:\03. Уроки ОРКСЭ\01. Разработки уроков по ОРКСЭ-2013\01. ОМРК-2013\01. ОМРК уроки О.О от 12.11. 2012\22 урок Паломничества\03. Иудаизм\59Jews_place_of_wailing1860[1].jpg"/>
          <p:cNvPicPr/>
          <p:nvPr/>
        </p:nvPicPr>
        <p:blipFill>
          <a:blip r:embed="rId1"/>
          <a:stretch/>
        </p:blipFill>
        <p:spPr>
          <a:xfrm>
            <a:off x="304920" y="685800"/>
            <a:ext cx="8692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img11.nnm.ru/9/9/8/5/9/b2e0a3794d61368c5ea624e2d46_prev.jpg"/>
          <p:cNvPicPr/>
          <p:nvPr/>
        </p:nvPicPr>
        <p:blipFill>
          <a:blip r:embed="rId1"/>
          <a:stretch/>
        </p:blipFill>
        <p:spPr>
          <a:xfrm>
            <a:off x="2819520" y="2438280"/>
            <a:ext cx="6651360" cy="44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ages04.oe24.at/Shwedagon.jpg/consoleMadonnaNoStretch2/57.164.305"/>
          <p:cNvPicPr/>
          <p:nvPr/>
        </p:nvPicPr>
        <p:blipFill>
          <a:blip r:embed="rId2"/>
          <a:stretch/>
        </p:blipFill>
        <p:spPr>
          <a:xfrm>
            <a:off x="0" y="838080"/>
            <a:ext cx="5810400" cy="290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ддисты на поклонении пагоде Шведаго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года – «башня сокровищ»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- священное культово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ооружени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ждая религия имеет  свои святыни – предметы, почитаемые верой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щепризнанная в современном мире норма – недопустимость   оскорблять  религиозные святын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Мировая культура складывается из культур различных народов и цивилизаций.</a:t>
            </a:r>
            <a:br>
              <a:rPr sz="4200"/>
            </a:b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Большое влияние на мировую культуру оказывают мировые религии</a:t>
            </a:r>
            <a:r>
              <a:rPr b="1" lang="ru-RU" sz="4200" spc="-1" strike="noStrike" u="sng">
                <a:solidFill>
                  <a:srgbClr val="0070c0"/>
                </a:solidFill>
                <a:uFillTx/>
                <a:latin typeface="Arial"/>
              </a:rPr>
              <a:t>: </a:t>
            </a:r>
            <a:r>
              <a:rPr b="1" lang="ru-RU" sz="4200" spc="-1" strike="noStrike" u="sng">
                <a:solidFill>
                  <a:srgbClr val="ff0000"/>
                </a:solidFill>
                <a:uFillTx/>
                <a:latin typeface="Arial"/>
              </a:rPr>
              <a:t>христианство, ислам, буддизм.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Самые многочисленные - христианство и ислам, их исповедуют половина населения планеты.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нутри каждой из этих религий существуют свои различия  в понимании религиозной истины. Эти различия называют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поведаниями, или конфессиями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христианстве три основные конфессии – православие, католицизм, протестантизм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просы, с обсуждения которых мы начали урок называют «вечными вопросами человечества». Новый предмет  позволит тебе подумать над «вечными» вопросами, узнать, как на них отвечают люди в разные времена и в разных обстоятельствах жизни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умай и ответь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ак человек может дать ответ на «вечные» вопросы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диционные религии Росси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– православное христианство, ислам, буддизм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ни называются традиционными, потому что  на территории России издавна живут народы, из поколения в поколение исповедующие эти религии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зучая  основы православной культуры,  мы будем учиться понимать, как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лигия влияет на все стороны жизни народа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-  его ценности, идеалы, стремления, его характер, искусство, жизнь, быт, государствен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Оцени свою работ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ы сегодня разобрались 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Я сегодня понял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не было сложно (трудно)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цени по 10-бальной шкале работу на занятии с позиции: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Я»    0_______10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Мы»  0_________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аждого человека в душе живет удивительная способность — вера. Вера — это предчувствие того, что мир вокруг нас и сама наша душа могут быть намного лучше и прекраснее, чем мы видим. Вера пробуждает в человеке стремление к лучшему, желание действовать ради бла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умай и ответь 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то является общим благом для семьи? Без чего она не может существ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img1.liveinternet.ru/images/attach/c/2/74/347/74347153_nasait050820102.jpg"/>
          <p:cNvPicPr/>
          <p:nvPr/>
        </p:nvPicPr>
        <p:blipFill>
          <a:blip r:embed="rId1"/>
          <a:stretch/>
        </p:blipFill>
        <p:spPr>
          <a:xfrm>
            <a:off x="838080" y="15238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очему общее благо является также и личным благом каждого члена семь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mosaica.ru/sites/default/files/news/preview/2011/06/14/big76.jpg"/>
          <p:cNvPicPr/>
          <p:nvPr/>
        </p:nvPicPr>
        <p:blipFill>
          <a:blip r:embed="rId1"/>
          <a:stretch/>
        </p:blipFill>
        <p:spPr>
          <a:xfrm>
            <a:off x="533520" y="1295280"/>
            <a:ext cx="8086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акие неприятности могут постигнуть семью, в которой каждый заботится только о собственном благе и не стремится к общему благу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.tsn.ua/media/images2/original/Apr2011/383418298.jpg"/>
          <p:cNvPicPr/>
          <p:nvPr/>
        </p:nvPicPr>
        <p:blipFill>
          <a:blip r:embed="rId1"/>
          <a:stretch/>
        </p:blipFill>
        <p:spPr>
          <a:xfrm>
            <a:off x="4648320" y="0"/>
            <a:ext cx="4306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видетельством того, что человеком во все века его существования движет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ремление к общему благу,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является человеческая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ультура.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к ты думаешь, что такое человеческая культу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 книгах, музыке, художественных произведениях, в облике зданий и городов человек запечатлел свои представления о совершенной жизни. Эти представления называются идеалами: есть  идеалы истины, красоты, справедливости, правды, любви. Идеалы создают для человека ясный образ того, что он должен делать, чтобы достичь общего благ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6:06:17Z</dcterms:created>
  <dc:creator>Ольга</dc:creator>
  <dc:description/>
  <dc:language>en-US</dc:language>
  <cp:lastModifiedBy>Olga</cp:lastModifiedBy>
  <dcterms:modified xsi:type="dcterms:W3CDTF">2014-10-23T05:53:2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