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FA7-6F21-4FAB-B26F-6E49DC362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2659-50E7-4767-908F-2A345E4E9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26B-E8FC-4362-A60E-42541E1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ED2-431B-400D-A7A2-66E42C7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45A-F167-496A-BAA2-8AA3BECF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71A-C42C-43D0-864A-6880E8EE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12A-D920-42C9-9F5B-28D14766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0C1-2803-43DF-840D-DAE5C221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D46-40F7-481F-8028-087D73E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439-8B6E-45A5-97C2-88237BD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B74-D3D7-46F1-A6CA-697139D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B8E-77F6-41CF-8B0A-09B9C39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815-25BC-46E8-A366-83F131A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F92-B254-4B58-B922-21CF361D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CC6-B3ED-473C-93CF-C78443232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6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Игумен земли Русской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Владимиро-Суздальское княжество. - Картинка 24 - Нашествие на Русь - Монголо-татарское иго - Картинки по истории"/>
          <p:cNvPicPr/>
          <p:nvPr/>
        </p:nvPicPr>
        <p:blipFill>
          <a:blip r:embed="rId1"/>
          <a:stretch/>
        </p:blipFill>
        <p:spPr>
          <a:xfrm>
            <a:off x="0" y="0"/>
            <a:ext cx="4191120" cy="381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Достоинства и недостатки веча - Заведующий кафедрой истории и права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7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G_0880. Нашествие монголо-татар на Владимир - ВЛАДИМИР: Золотые Ворота (июль 2009) - Путешествия photoshare.ru"/>
          <p:cNvPicPr/>
          <p:nvPr/>
        </p:nvPicPr>
        <p:blipFill>
          <a:blip r:embed="rId3"/>
          <a:srcRect l="0" t="0" r="0" b="12936"/>
          <a:stretch/>
        </p:blipFill>
        <p:spPr>
          <a:xfrm>
            <a:off x="0" y="3673440"/>
            <a:ext cx="4876920" cy="318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ONGOL INVASION: TOTAL WAR - ФЕОДАЛЬНАЯ РУСЬ И СРЕДНЕВЕКОВАЯ ВОСТОЧНАЯ ЕВРОПА @ EX.UA"/>
          <p:cNvPicPr/>
          <p:nvPr/>
        </p:nvPicPr>
        <p:blipFill>
          <a:blip r:embed="rId4"/>
          <a:srcRect l="0" t="8140" r="0" b="0"/>
          <a:stretch/>
        </p:blipFill>
        <p:spPr>
          <a:xfrm>
            <a:off x="4343400" y="3727440"/>
            <a:ext cx="480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 Июня 2012 - Станица &quot;Топальская&quot;"/>
          <p:cNvPicPr/>
          <p:nvPr/>
        </p:nvPicPr>
        <p:blipFill>
          <a:blip r:embed="rId1"/>
          <a:srcRect l="9409" t="11718" r="11534" b="12975"/>
          <a:stretch/>
        </p:blipFill>
        <p:spPr>
          <a:xfrm>
            <a:off x="1143000" y="0"/>
            <a:ext cx="6384960" cy="68421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Преподобный Сергий Радонежский spbobrazovanie.ru"/>
          <p:cNvPicPr/>
          <p:nvPr/>
        </p:nvPicPr>
        <p:blipFill>
          <a:blip r:embed="rId1"/>
          <a:stretch/>
        </p:blipFill>
        <p:spPr>
          <a:xfrm>
            <a:off x="762120" y="25560"/>
            <a:ext cx="7848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. Прп. Сергий -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33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Параметры иконы Преподобный Сергий Радонежский проивзодства Горлица :: православный интернет-магазин Русский Паломник"/>
          <p:cNvPicPr/>
          <p:nvPr/>
        </p:nvPicPr>
        <p:blipFill>
          <a:blip r:embed="rId1"/>
          <a:srcRect l="9760" t="8003" r="9760" b="9997"/>
          <a:stretch/>
        </p:blipFill>
        <p:spPr>
          <a:xfrm>
            <a:off x="1447920" y="0"/>
            <a:ext cx="551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violanatans: день памяти преподобного Сергия Радонежского"/>
          <p:cNvPicPr/>
          <p:nvPr/>
        </p:nvPicPr>
        <p:blipFill>
          <a:blip r:embed="rId1"/>
          <a:stretch/>
        </p:blipFill>
        <p:spPr>
          <a:xfrm>
            <a:off x="1527120" y="-22320"/>
            <a:ext cx="48736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Преподобный Сергий, игумен Радонежский, всея России чудотворец - nevskiysobor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гумен земли Рус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невник светик-светлая : LiveInternet - Российский Сервис Онлайн-Дневников"/>
          <p:cNvPicPr/>
          <p:nvPr/>
        </p:nvPicPr>
        <p:blipFill>
          <a:blip r:embed="rId1"/>
          <a:srcRect l="0" t="0" r="0" b="4915"/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Сектор 10 :: Просмотр темы - Этот день в истори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Святые благоверные князья (княгини) - Страница 2 - Форум"/>
          <p:cNvPicPr/>
          <p:nvPr/>
        </p:nvPicPr>
        <p:blipFill>
          <a:blip r:embed="rId1"/>
          <a:stretch/>
        </p:blipFill>
        <p:spPr>
          <a:xfrm>
            <a:off x="182880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Православные иконы - Каталог - Иконы - Писаные иконы"/>
          <p:cNvPicPr/>
          <p:nvPr/>
        </p:nvPicPr>
        <p:blipFill>
          <a:blip r:embed="rId1"/>
          <a:srcRect l="2881" t="2284" r="3425" b="2856"/>
          <a:stretch/>
        </p:blipFill>
        <p:spPr>
          <a:xfrm>
            <a:off x="3773520" y="0"/>
            <a:ext cx="537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гумен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емли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Рус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Митрофорный протоиерей ВАЛЕРИЙ (Захаров) - Никольский Благовест N 484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оле Куликов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Народный Собор - Куликовский триумф"/>
          <p:cNvPicPr/>
          <p:nvPr/>
        </p:nvPicPr>
        <p:blipFill>
          <a:blip r:embed="rId1"/>
          <a:stretch/>
        </p:blipFill>
        <p:spPr>
          <a:xfrm>
            <a:off x="0" y="930240"/>
            <a:ext cx="90536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единок Пересвета с Челуб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Фаллосообразное правосудие - Женский форум НАТАЛИ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День воинской славы России - День победы русских"/>
          <p:cNvPicPr/>
          <p:nvPr/>
        </p:nvPicPr>
        <p:blipFill>
          <a:blip r:embed="rId1"/>
          <a:stretch/>
        </p:blipFill>
        <p:spPr>
          <a:xfrm>
            <a:off x="160020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 Ярославской области готовятся к празднованию 700-летия со Дня рождения преподобного Сергия Радонежского - YarNews.net"/>
          <p:cNvPicPr/>
          <p:nvPr/>
        </p:nvPicPr>
        <p:blipFill>
          <a:blip r:embed="rId1"/>
          <a:srcRect l="14205" t="11139" r="13304" b="12475"/>
          <a:stretch/>
        </p:blipFill>
        <p:spPr>
          <a:xfrm>
            <a:off x="1600200" y="0"/>
            <a:ext cx="52578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вятая 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Святая Русь: историческая правда или красивая сказка? Храм Всех Святых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Таблица 2" descr=""/>
          <p:cNvPicPr/>
          <p:nvPr/>
        </p:nvPicPr>
        <p:blipFill>
          <a:blip r:embed="rId1"/>
          <a:stretch/>
        </p:blipFill>
        <p:spPr>
          <a:xfrm>
            <a:off x="-60480" y="-85680"/>
            <a:ext cx="8972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Викторина по Александру Невскому"/>
          <p:cNvPicPr/>
          <p:nvPr/>
        </p:nvPicPr>
        <p:blipFill>
          <a:blip r:embed="rId1"/>
          <a:srcRect l="2398" t="8282" r="1606" b="2478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Троице-Сергиева Лав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rcRect l="3598" t="0" r="5201" b="2645"/>
          <a:stretch/>
        </p:blipFill>
        <p:spPr>
          <a:xfrm>
            <a:off x="1066680" y="0"/>
            <a:ext cx="680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Папка 'Сергий Радонежский' - Галина Ивановна Куколева"/>
          <p:cNvPicPr/>
          <p:nvPr/>
        </p:nvPicPr>
        <p:blipFill>
          <a:blip r:embed="rId1"/>
          <a:srcRect l="-1201" t="0" r="0" b="5304"/>
          <a:stretch/>
        </p:blipFill>
        <p:spPr>
          <a:xfrm>
            <a:off x="182880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ирилл и Мария Радонежские QuickiWiki"/>
          <p:cNvPicPr/>
          <p:nvPr/>
        </p:nvPicPr>
        <p:blipFill>
          <a:blip r:embed="rId1"/>
          <a:srcRect l="15997" t="13013" r="15997" b="13819"/>
          <a:stretch/>
        </p:blipFill>
        <p:spPr>
          <a:xfrm>
            <a:off x="1523880" y="0"/>
            <a:ext cx="518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. Прп. Сергий -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97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29628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добный жил в очень тяжелое для Руси врем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XI в. территорию современной Монголии и юга Сибири заселили кереиты, найманы, татары и другие племена, говорившие на монгольском языке. К этому периоду относится становление их государственности. Вожди кочевых племен назывались ханами. Кочевое хозяйство (скот и пастбища) требовали постоянного расширения территории, поэтому монгольская знать стремилась к завоеванию чужих земель. К началу 13 в. монголы под предводительством Чингис-хана объединили под своим крылом большинство народов востока Еврази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 впервые пересеклись с этим степным народом, когда убили их послов, которые были посланы на Русь с целью переубедить восточных славян поддерживать половцев. Последние были врагами монгол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223 г. на реке Калке объединённая армия русских и половцев потерпела поражение от монголов. На Русь надвигалось ордынское нашеств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дынское наше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Нашествие Батыя на Русь. - Картинка 1 - Нашествие Батыя на Русь - Монголо-татарское иго - Картинки по истории"/>
          <p:cNvPicPr/>
          <p:nvPr/>
        </p:nvPicPr>
        <p:blipFill>
          <a:blip r:embed="rId1"/>
          <a:srcRect l="4167" t="5058" r="2835" b="5613"/>
          <a:stretch/>
        </p:blipFill>
        <p:spPr>
          <a:xfrm>
            <a:off x="533520" y="762120"/>
            <a:ext cx="8250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ga</cp:lastModifiedBy>
  <dcterms:modified xsi:type="dcterms:W3CDTF">2014-10-23T06:18:17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