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14F-C21C-45CA-A2F5-79CFCFFE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E0D-91BC-4C4E-908B-CB8F36BA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C9D-A126-4EEE-99B5-ACF79281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FDB-B0BC-43DD-BAC4-A36E108F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BFA-EF36-4011-B071-819C01C4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5D0-1A9F-4737-B4CD-8A6BDF13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8DE-8346-4158-85E2-848D011A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C64-0DE6-41AB-AA3B-BF75C075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B86-5C7D-40F3-8F0A-A6B94CC4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B91-8645-4206-A81F-DC9E04A3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206-9378-4C10-9E20-95A5EC0C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C701-0845-406D-A6BC-0ECAED9C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6A11-EE98-4D6D-9A07-65BFAE5BC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СЕМЬЯ  В  ПРАВОСЛАВ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цени свою рабо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Что вас удивило в содержании урок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Что интересного  в содержании заметил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Задай одноклассникам вопрос, который помог бы уточнить смысл изученного материал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5592600"/>
          </a:xfrm>
          <a:prstGeom prst="rect">
            <a:avLst/>
          </a:prstGeom>
          <a:noFill/>
          <a:ln w="9360">
            <a:solidFill>
              <a:srgbClr val="0b3dc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Урок 23 </a:t>
            </a:r>
            <a:br>
              <a:rPr sz="4400"/>
            </a:b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«Семья в Православии»</a:t>
            </a: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Курс ОРКСЭ (модуль» Основы православной культуры»)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Автор: Осадчая Ольга Олеговна, учитель ОРКСЭ ГБОУ СОШ  № 347</a:t>
            </a:r>
            <a:br>
              <a:rPr sz="3600"/>
            </a:b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г. Санкт-Петер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5409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Что такое семья? И что значит в жизни человека семь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E:\03. ДНК\Урок откр Семья в Православии\12. Царская Семья.jpg"/>
          <p:cNvPicPr/>
          <p:nvPr/>
        </p:nvPicPr>
        <p:blipFill>
          <a:blip r:embed="rId1"/>
          <a:stretch/>
        </p:blipFill>
        <p:spPr>
          <a:xfrm>
            <a:off x="1143000" y="152280"/>
            <a:ext cx="6645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228960" y="57146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чему, увидев жёлтые платочки на дубе, Винго окаменел?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чему пассажиры автобуса так сопереживали  мужчине?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Что для этого человека значат родной дом и семья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D:\01. Учебник ОПК для ДРОФЫ 10. .11\01. Уроки 1-31 от 13.11.2012\18 урок Семья в Православии\9880427_w640_h640_88824644dfa6860053de939cd8[1].jpg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5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«И благословил их Бог, и сказал им Бог: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лодитесь и размножайтесь, и наполняйте землю...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D:\01. Учебник ОПК для ДРОФЫ 10. .11\01. Уроки 1-31 от 13.11.2012\18 урок Семья в Православии\01. Адам И ева.jpg"/>
          <p:cNvPicPr/>
          <p:nvPr/>
        </p:nvPicPr>
        <p:blipFill>
          <a:blip r:embed="rId1"/>
          <a:stretch/>
        </p:blipFill>
        <p:spPr>
          <a:xfrm>
            <a:off x="2286000" y="228600"/>
            <a:ext cx="40053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40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Святые Пётр и Феврония- покровители семьи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и б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01. Учебник ОПК для ДРОФЫ 10. .11\01. Уроки 1-31 от 13.11.2012\18 урок Семья в Православии\Пётр и Феврония.jpg"/>
          <p:cNvPicPr/>
          <p:nvPr/>
        </p:nvPicPr>
        <p:blipFill>
          <a:blip r:embed="rId1"/>
          <a:stretch/>
        </p:blipFill>
        <p:spPr>
          <a:xfrm>
            <a:off x="2728800" y="111240"/>
            <a:ext cx="32911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ыскажи предположение, почему  рядом с супругами находятся анге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362320" y="0"/>
            <a:ext cx="3828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думай, что означает название картины «Без вести пропавший»? Как ты думаешь, какое горе и какие  трудности  пережили супруги?  Как они переживают момент, изображенный на картине? Какие детали картины помогут тебе ответить на этот вопро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D:\01. Учебник ОПК для ДРОФЫ 10. .11\01. Уроки 1-31 от 13.11.2012\18 урок Семья в Православии\Андрей Горский Без вести пропавший.jpg"/>
          <p:cNvPicPr/>
          <p:nvPr/>
        </p:nvPicPr>
        <p:blipFill>
          <a:blip r:embed="rId1"/>
          <a:stretch/>
        </p:blipFill>
        <p:spPr>
          <a:xfrm>
            <a:off x="428760" y="0"/>
            <a:ext cx="8181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но сплю я спокойно, покуда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Она надо мною стоит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D:\01. Учебник ОПК для ДРОФЫ 10. .11\01. Уроки 1-31 от 13.11.2012\18 урок Семья в Православии\Урок откр Семья в Православии\Молитва матери.jpg"/>
          <p:cNvPicPr/>
          <p:nvPr/>
        </p:nvPicPr>
        <p:blipFill>
          <a:blip r:embed="rId1"/>
          <a:stretch/>
        </p:blipFill>
        <p:spPr>
          <a:xfrm>
            <a:off x="2666880" y="152280"/>
            <a:ext cx="37371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4:37:00Z</dcterms:created>
  <dc:creator>Ольга</dc:creator>
  <dc:description/>
  <dc:language>en-US</dc:language>
  <cp:lastModifiedBy>Olga</cp:lastModifiedBy>
  <dcterms:modified xsi:type="dcterms:W3CDTF">2014-10-23T07:09:4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