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224-F198-4BF8-B2EF-1DA71126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132-F0C9-4F39-8319-C2E87032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851-8885-4863-80E4-C1D147D0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5CD-35A1-4BC0-95B4-F286379F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BFA-F82E-4501-85AE-1FB1D2D5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13D-CB14-435C-A296-D6622A00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24B-1F78-49BB-B771-1B98C8D0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171-A16A-4FA7-AF82-C487429C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B4F-F352-400D-955A-BD2521A4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81D-35F2-461B-8B1C-E54678C5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0CA-E5F4-441D-9BA8-87347986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280-987A-4912-A836-82A05981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5033-FA4D-4F63-86E4-329C9DDD6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840" y="195120"/>
            <a:ext cx="919332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И"/>
          <p:cNvPicPr/>
          <p:nvPr/>
        </p:nvPicPr>
        <p:blipFill>
          <a:blip r:embed="rId1"/>
          <a:srcRect l="0" t="9364" r="0" b="0"/>
          <a:stretch/>
        </p:blipFill>
        <p:spPr>
          <a:xfrm>
            <a:off x="152280" y="1828800"/>
            <a:ext cx="2737080" cy="3276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"/>
          <p:cNvPicPr/>
          <p:nvPr/>
        </p:nvPicPr>
        <p:blipFill>
          <a:blip r:embed="rId2"/>
          <a:srcRect l="7731" t="1913" r="0" b="0"/>
          <a:stretch/>
        </p:blipFill>
        <p:spPr>
          <a:xfrm>
            <a:off x="3048120" y="1905120"/>
            <a:ext cx="5957640" cy="3124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0"/>
          <p:cNvSpPr/>
          <p:nvPr/>
        </p:nvSpPr>
        <p:spPr>
          <a:xfrm>
            <a:off x="0" y="5257800"/>
            <a:ext cx="3505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. Глазун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воды вой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4876920" y="518148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Глазунов «Два княз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9"/>
          <p:cNvSpPr/>
          <p:nvPr/>
        </p:nvSpPr>
        <p:spPr>
          <a:xfrm>
            <a:off x="0" y="380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ак эти картины можно объединить одним сюже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Единое служение мужчины и женщины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http://lubsrcn.ru/assets/images/malchik-s-devochkoj.jpg"/>
          <p:cNvPicPr/>
          <p:nvPr/>
        </p:nvPicPr>
        <p:blipFill>
          <a:blip r:embed="rId1"/>
          <a:stretch/>
        </p:blipFill>
        <p:spPr>
          <a:xfrm>
            <a:off x="5181480" y="28954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152280" y="154440"/>
            <a:ext cx="815364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Е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Ф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Л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Е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Я узнала...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Я поня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Мне понравилось...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Для меня стало новым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Меня удивило...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Мне захотелось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Что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 помогало 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и что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мешало 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работе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на урок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9090000" cy="927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F:\Знам. Чтения 14.12 от 9.12\july8b_1.jpg"/>
          <p:cNvPicPr/>
          <p:nvPr/>
        </p:nvPicPr>
        <p:blipFill>
          <a:blip r:embed="rId2"/>
          <a:stretch/>
        </p:blipFill>
        <p:spPr>
          <a:xfrm>
            <a:off x="1066680" y="914400"/>
            <a:ext cx="71629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-225360" y="-6480"/>
            <a:ext cx="5248080" cy="6870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www.projects.uniyar.ac.ru/fresco/pic/bv/bv_71.jpg"/>
          <p:cNvPicPr/>
          <p:nvPr/>
        </p:nvPicPr>
        <p:blipFill>
          <a:blip r:embed="rId2"/>
          <a:stretch/>
        </p:blipFill>
        <p:spPr>
          <a:xfrm>
            <a:off x="4648320" y="36360"/>
            <a:ext cx="449568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146160" y="-92160"/>
            <a:ext cx="8851680" cy="97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F:\Знам. Чтения 14.12 от 9.12\gallery87.jpg"/>
          <p:cNvPicPr/>
          <p:nvPr/>
        </p:nvPicPr>
        <p:blipFill>
          <a:blip r:embed="rId2"/>
          <a:stretch/>
        </p:blipFill>
        <p:spPr>
          <a:xfrm>
            <a:off x="1447920" y="9144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9058320" cy="1201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Ю"/>
          <p:cNvPicPr/>
          <p:nvPr/>
        </p:nvPicPr>
        <p:blipFill>
          <a:blip r:embed="rId2"/>
          <a:srcRect l="11384" t="0" r="11670" b="0"/>
          <a:stretch/>
        </p:blipFill>
        <p:spPr>
          <a:xfrm>
            <a:off x="304920" y="1676520"/>
            <a:ext cx="1780920" cy="42577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К"/>
          <p:cNvPicPr/>
          <p:nvPr/>
        </p:nvPicPr>
        <p:blipFill>
          <a:blip r:embed="rId3"/>
          <a:stretch/>
        </p:blipFill>
        <p:spPr>
          <a:xfrm>
            <a:off x="5638680" y="1676520"/>
            <a:ext cx="3267360" cy="3609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"/>
          <p:cNvSpPr/>
          <p:nvPr/>
        </p:nvSpPr>
        <p:spPr>
          <a:xfrm>
            <a:off x="457200" y="6095880"/>
            <a:ext cx="160020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ис. 1 Ю. Кугач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Дмитрий Донско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3429000" y="5562720"/>
            <a:ext cx="151272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ис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Е. Флёров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тец и сын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248520" y="5562720"/>
            <a:ext cx="243828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ис.3 К. Лебеде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лиелей. Чтение хвалебных псалмо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7" descr="http://via-midgard.info/uploads/posts/2012-05/1336667762_otec-i-syn.jpg"/>
          <p:cNvPicPr/>
          <p:nvPr/>
        </p:nvPicPr>
        <p:blipFill>
          <a:blip r:embed="rId4"/>
          <a:stretch/>
        </p:blipFill>
        <p:spPr>
          <a:xfrm>
            <a:off x="2514600" y="1676520"/>
            <a:ext cx="2876400" cy="3724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В предверии тяжёлой работы"/>
          <p:cNvPicPr/>
          <p:nvPr/>
        </p:nvPicPr>
        <p:blipFill>
          <a:blip r:embed="rId1"/>
          <a:stretch/>
        </p:blipFill>
        <p:spPr>
          <a:xfrm>
            <a:off x="4116240" y="3048120"/>
            <a:ext cx="5027760" cy="38098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58" name="Picture 5" descr="Картина Элсли"/>
          <p:cNvPicPr/>
          <p:nvPr/>
        </p:nvPicPr>
        <p:blipFill>
          <a:blip r:embed="rId2"/>
          <a:stretch/>
        </p:blipFill>
        <p:spPr>
          <a:xfrm>
            <a:off x="0" y="1371600"/>
            <a:ext cx="4089240" cy="54864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59" name="Заголовок 3" descr=""/>
          <p:cNvPicPr/>
          <p:nvPr/>
        </p:nvPicPr>
        <p:blipFill>
          <a:blip r:embed="rId3"/>
          <a:stretch/>
        </p:blipFill>
        <p:spPr>
          <a:xfrm>
            <a:off x="-6480" y="-139680"/>
            <a:ext cx="92664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Знам. Чтения 14.12 от 9.12\prolove5.jpg"/>
          <p:cNvPicPr/>
          <p:nvPr/>
        </p:nvPicPr>
        <p:blipFill>
          <a:blip r:embed="rId1"/>
          <a:stretch/>
        </p:blipFill>
        <p:spPr>
          <a:xfrm>
            <a:off x="228600" y="304920"/>
            <a:ext cx="3962520" cy="6324480"/>
          </a:xfrm>
          <a:prstGeom prst="rect">
            <a:avLst/>
          </a:prstGeom>
          <a:ln w="0">
            <a:noFill/>
          </a:ln>
        </p:spPr>
      </p:pic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413240" y="0"/>
            <a:ext cx="473076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-176040" y="-249120"/>
            <a:ext cx="9807480" cy="1749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форум-юв.рф/wp-content/uploads/2011/08/%D0%B7%D0%B5%D0%BC%D0%BB%D1%8F-2.jpg"/>
          <p:cNvPicPr/>
          <p:nvPr/>
        </p:nvPicPr>
        <p:blipFill>
          <a:blip r:embed="rId2"/>
          <a:stretch/>
        </p:blipFill>
        <p:spPr>
          <a:xfrm>
            <a:off x="1143000" y="1467000"/>
            <a:ext cx="67438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Знам. Чтения 14.12 от 9.12\297ea0d50907f2c471cf46b771785c7fbc81cc79630769.jpg"/>
          <p:cNvPicPr/>
          <p:nvPr/>
        </p:nvPicPr>
        <p:blipFill>
          <a:blip r:embed="rId1"/>
          <a:stretch/>
        </p:blipFill>
        <p:spPr>
          <a:xfrm>
            <a:off x="228600" y="304920"/>
            <a:ext cx="4425840" cy="6248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4876920" y="841680"/>
            <a:ext cx="4038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…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нежность, хрупкость, искренность, верность.  Эти женские качества  вызывают в мужчине желание оберегать и защищать женщ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5:20:23Z</dcterms:created>
  <dc:creator>Ольга</dc:creator>
  <dc:description/>
  <dc:language>en-US</dc:language>
  <cp:lastModifiedBy>Olga</cp:lastModifiedBy>
  <dcterms:modified xsi:type="dcterms:W3CDTF">2014-10-23T07:01:14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